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21.xml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7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äputialaus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2680" y="549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enital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endCxn id="100" idx="1"/>
          </p:cNvCxnSpPr>
          <p:nvPr/>
        </p:nvCxnSpPr>
        <p:spPr>
          <a:xfrm flipV="1">
            <a:off x="3313080" y="3404160"/>
            <a:ext cx="2699280" cy="677520"/>
          </a:xfrm>
          <a:prstGeom prst="bentConnector3">
            <a:avLst>
              <a:gd name="adj1" fmla="val 45618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82160" y="549360"/>
            <a:ext cx="76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5" idx="3"/>
            <a:endCxn id="16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1" idx="3"/>
            <a:endCxn id="173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4" name=""/>
          <p:cNvCxnSpPr>
            <a:stCxn id="171" idx="3"/>
            <a:endCxn id="175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82160" y="549360"/>
            <a:ext cx="76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82160" y="549360"/>
            <a:ext cx="76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3"/>
            <a:endCxn id="18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3"/>
            <a:endCxn id="186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2160" y="549360"/>
            <a:ext cx="76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82160" y="549360"/>
            <a:ext cx="76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equestr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9" idx="3"/>
            <a:endCxn id="19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82160" y="549360"/>
            <a:ext cx="76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4" idx="3"/>
            <a:endCxn id="19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Acetylsalicylsäur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n Willebrand-Faktor-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lobuli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ämi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200" idx="3"/>
            <a:endCxn id="20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89720" y="549360"/>
            <a:ext cx="77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89000" y="549360"/>
            <a:ext cx="79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ngel an 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4" idx="3"/>
            <a:endCxn id="2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9" name=""/>
          <p:cNvCxnSpPr>
            <a:endCxn id="2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89000" y="549360"/>
            <a:ext cx="79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ngel an 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3"/>
            <a:endCxn id="2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6" name=""/>
          <p:cNvCxnSpPr>
            <a:endCxn id="2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89000" y="549360"/>
            <a:ext cx="79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ngel an 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8" idx="3"/>
            <a:endCxn id="22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3"/>
            <a:endCxn id="10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1025280" y="54936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 dem Harntrakt 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wegs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89000" y="549360"/>
            <a:ext cx="79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ngel an 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440" y="549360"/>
            <a:ext cx="84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us dem Harntrakt stammend &gt; 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rntrakt &gt; Störung der Hämostase &gt; Störung der sekundären Hämostase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ngel an Gerinnungsfaktoren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8" idx="3"/>
            <a:endCxn id="23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6280" y="549360"/>
            <a:ext cx="74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äputialausfluss &gt; aus dem Harntrakt stammend &gt; 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rntrakt &gt; 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4" idx="3"/>
            <a:endCxn id="23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UT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olithias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gangszellkarzin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blut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ital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54936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äputialausfluss &gt; aus dem Genitaltrakt 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0" idx="3"/>
            <a:endCxn id="24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lanoposth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hypertroph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Sticker-Sarkom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3"/>
            <a:endCxn id="1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2" idx="3"/>
            <a:endCxn id="1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095840" y="549360"/>
            <a:ext cx="69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3"/>
            <a:endCxn id="12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3" name=""/>
          <p:cNvCxnSpPr>
            <a:stCxn id="119" idx="3"/>
            <a:endCxn id="12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1095840" y="549360"/>
            <a:ext cx="69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törung der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3"/>
            <a:endCxn id="128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6" idx="3"/>
            <a:endCxn id="131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2880" y="549360"/>
            <a:ext cx="74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82160" y="549360"/>
            <a:ext cx="76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3"/>
            <a:endCxn id="13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1" idx="3"/>
            <a:endCxn id="14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5" name=""/>
          <p:cNvCxnSpPr>
            <a:stCxn id="141" idx="3"/>
            <a:endCxn id="14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46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9" name=""/>
          <p:cNvCxnSpPr>
            <a:stCxn id="141" idx="3"/>
            <a:endCxn id="147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1082160" y="549360"/>
            <a:ext cx="76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82160" y="549360"/>
            <a:ext cx="76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2" idx="3"/>
            <a:endCxn id="15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7" name=""/>
          <p:cNvCxnSpPr>
            <a:endCxn id="15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82160" y="549360"/>
            <a:ext cx="76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äputialausflu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 dem 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orwiegend 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6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 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639684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09:02:21Z</dcterms:modified>
  <cp:revision>327</cp:revision>
  <dc:subject/>
  <dc:title>Vorstellung einer Neuheit</dc:title>
</cp:coreProperties>
</file>